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2BD-D663-4D81-BFAD-C7A01C33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95E-F730-4F52-BC1D-F19F43C6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52C-5AF2-4AEA-9A13-EFCE540D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A4C-2871-49C1-BE35-19CCEFD2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CEDE-4553-4A6B-A182-C553C7C5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56C-A726-4A36-B9FC-DB23868D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59F7-B51B-4BBF-BBD4-5487B2DD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F63-C556-4F86-910E-AC602D89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9FAF-15E4-4752-8218-AE0B4C4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1375-69E1-430B-A997-B90DA63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12B3-48F6-4353-A363-24DC664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390-C14A-414C-B1BC-A31896D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D7BB-AD83-4DCB-A27C-FB3E6F2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78C-D6C8-4602-BE8E-00621AE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A12B-B5E2-4CA8-83C7-ADF76609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327-359C-4CC7-B754-8378FAD4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5A38-A29A-4439-971A-24A406BB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E7F-1718-41F2-B0BA-8BA1DAE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F37-D70E-4EAC-9EA7-7E3D0C97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E85-F19F-45F8-907D-327F0BC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E6D-415A-43AE-9440-D45EF52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81D-D818-448F-B4DE-3F4D0622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22E-59B9-452A-87D1-17224B6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6CC-68F1-4B04-BEA2-6154939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C9D4-21F0-4A87-9C72-0D6B9653C75A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5D0C-EF0D-49F5-817F-5EB6824E9841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Voici mon sport préfér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9T14:39:17Z</dcterms:modified>
  <cp:revision>11</cp:revision>
  <dc:subject/>
  <dc:title>Le chien</dc:title>
</cp:coreProperties>
</file>